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F3D-7083-4C19-9718-51EA2459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titorul nostru ne-a dat posibilitatea de a avea viata vesnica in R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F6C-4C90-4642-B6B1-7671C8C6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DF9-AC58-46E1-B68B-014AB40B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EE3-0C2C-4C00-B786-7B335A7A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771-B60C-4E4A-8A3C-C0141B74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ED57-1153-458C-B6EE-D81B7F94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29B-4B9C-49C5-8204-46C6727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31B-F588-4B3C-9A1C-518229D9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77D-689F-4724-8320-DDBCD69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E8A-121C-471B-995C-657F2DA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26D-03C5-4619-969D-6B384CBD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CE6-22FE-4636-AC00-9814DE40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DA1-CDF9-4174-B600-1D48618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389-D8EB-4C5E-8E46-156F5E9B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e este Iisus Hris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stim despre 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8000" y="4653000"/>
            <a:ext cx="22957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TE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 a nascut la Betleem in anul 1 din Fecioar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941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IL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ilarit in cetatea Naza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039760"/>
            <a:ext cx="453708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ATATOR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tatura Sa dumnezeasca se afla in Bib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22827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DUL PA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vaduit dragostea fata de Dumnezeu si oam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66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STIGNI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st rastignit pe Cruce in Ierusalim pe Golgota fara vina pentru mintuirea sufletelor no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E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nviat a 3-a zi facand cea mai mare minune a lumii fapt care a determinat o puternica credinta cea cres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88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AL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a 40 de zile S-a Inaltat la cer in prezenta Apostol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324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5:58Z</dcterms:created>
  <dc:creator>cursant</dc:creator>
  <dc:description/>
  <dc:language>en-US</dc:language>
  <cp:lastModifiedBy>cursant</cp:lastModifiedBy>
  <dcterms:modified xsi:type="dcterms:W3CDTF">2010-09-02T08:28:11Z</dcterms:modified>
  <cp:revision>3</cp:revision>
  <dc:subject/>
  <dc:title>Cine este Iisus Hristos?</dc:title>
</cp:coreProperties>
</file>